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B94-837A-4E6A-BB07-06835D4D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1ED-836D-464E-85C6-6672447F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DF5-C8D6-4AC9-B81F-C46CCBCC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AB2-7FE5-42D7-9181-254EC907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833C-343B-4DCE-AD44-E11F6A5C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D0CD-1291-4038-8620-C38903EF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3032-F180-4E4C-8943-ACF76387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291A-4574-4E71-9DB1-39514F12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5AAD-CD19-4335-AB39-8CC4DCAE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9F5F-9749-4417-AB30-912EA2C8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F2D8-CF75-44B3-9261-9AA5B086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E33-CEC9-47F3-BF2F-E8AB2A12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0B9B-547C-4C28-BC38-59B07547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8469-1859-465B-A9B0-7B135280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E825-5660-4A89-90D4-07647989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D906-B71C-4E9F-9775-F17A969E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3C97-30DF-4DF7-A463-BD89826D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6AB-38D9-40EA-8528-50E5306B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09B-1D4D-42DE-BEDA-65C24FD6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55A-8F02-4976-9E15-AD8C408D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179-15B3-4D40-A0FA-3633A3C1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4C9-FA8C-4703-9A81-CC459A9D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07D-DBE4-4E66-BD1C-92648BE9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700-3160-4FDF-B815-2779A0CA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16AB-062A-4B43-B570-C064AF88D3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4EF7-7CDF-4068-8B15-FAE62D62226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vp.cz/" TargetMode="External"/><Relationship Id="rId2" Type="http://schemas.openxmlformats.org/officeDocument/2006/relationships/hyperlink" Target="http://www.rvp.cz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VK EU PENÍZE DO ŠK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9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BJASNĚNÍ PROJEKTU – VIZ. VÝZV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OSLÁNÍ PROJEKTU – web MŠMT, ZŠ ZUBŘ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AŠE ÚČAST –podaná přihlášk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VK EU PENÍZE DO ŠK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9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ZÁKLADNÍ POJMY – oblast, obor, kapitola(modul), specifika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PITOLY – důležité pojm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ŘÍRUČKA - ukázk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GISLATIVA – další dokumenty na web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VK EU PENÍZE DO ŠK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ÍN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ří – časový rozvr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íjen - podklad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opad - přípr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den- re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ZNAMOVÝ ARCH – ukázka, zdůvod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KOLENÍ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TROLNÍ MECHANIS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VK EU PENÍZE DO ŠK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9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Š ZÁMĚR – jazyky, ICT vybavení, mz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TERIÁL/SLUŽBY/MZDY – objasnění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M – </a:t>
            </a:r>
            <a:r>
              <a:rPr b="0" lang="cs-CZ" sz="3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</a:t>
            </a:r>
            <a:r>
              <a:rPr b="0" lang="cs-CZ" sz="3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rvp.cz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, echalk, naše dí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RSONÁLNÍ ZABEZPEČENÍ – HIERARCH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VK EU PENÍZE DO ŠK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9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ARMONOGRAM PRACÍ – viz tabulk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EDOUCÍ, TÝM - – viz tabulk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ZDĚLENÍ ČINOSTÍ A ÚKOLŮ – (MOZKOBOUŘA) – viz tabulk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SKUS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9:05:03Z</dcterms:created>
  <dc:creator>mixl</dc:creator>
  <dc:description/>
  <dc:language>en-US</dc:language>
  <cp:lastModifiedBy>mixl</cp:lastModifiedBy>
  <dcterms:modified xsi:type="dcterms:W3CDTF">2010-08-30T19:13:11Z</dcterms:modified>
  <cp:revision>4</cp:revision>
  <dc:subject/>
  <dc:title>OPVK EU PENÍZE DO ŠKOL</dc:title>
</cp:coreProperties>
</file>