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414-FF3F-4F89-8028-3B32B6DC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553-7108-4B89-933C-AC101AAC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92D-3A63-44A2-9E6F-5244CC30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641-51E8-49CB-B0EA-8FEAC792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59BC-8B9A-4599-B3B0-1C453855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2E07-1F58-4504-8A38-E7A1F5EE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1C5D-7571-4604-A2D4-88802F22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CAB4-DF62-41D2-BE0D-80904AEF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BA2F-E7EE-48C5-88F5-2E8394BD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CEFF-7AA7-456C-BC7F-6A88B83C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0BE2-4A88-4615-ADD2-7F69F107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6A5-E26D-4EA3-8433-A847BF4F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8B02-D82D-4D95-9032-B7B8DF88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DF81-CAD7-4541-A024-9E4A4C5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8A40-84B7-460D-BFED-E09F3EA1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2D35-C773-4549-AB2D-231EF03D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E2F8-F7B3-4845-92A0-A6EE5430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9D4-F8B7-4CB3-841B-071BEA1F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B0F-5474-4314-ACAD-8184A352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641-1136-4E65-B67B-013B86CF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743-AD84-4B0E-8F63-2AEC62D8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61C-D7EF-430C-A76D-3C239CD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6E8-6A9E-43E5-9B1C-051A84F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016-214C-4F11-A0DA-B90F2A2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D377-DD2B-43C3-BCCA-D9C9D774CE1B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260000"/>
            </a:solidFill>
            <a:ln w="5724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6A69-A6E5-456B-B80F-E1D96193D30C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5878b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5878b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vp.cz/" TargetMode="External"/><Relationship Id="rId2" Type="http://schemas.openxmlformats.org/officeDocument/2006/relationships/hyperlink" Target="http://www.rvp.cz/" TargetMode="External"/><Relationship Id="rId3" Type="http://schemas.openxmlformats.org/officeDocument/2006/relationships/hyperlink" Target="http://www.veskole.cz/" TargetMode="External"/><Relationship Id="rId4" Type="http://schemas.openxmlformats.org/officeDocument/2006/relationships/hyperlink" Target="http://www.cfme.cz/" TargetMode="External"/><Relationship Id="rId5" Type="http://schemas.openxmlformats.org/officeDocument/2006/relationships/hyperlink" Target="http://www.zaskolou.cz/" TargetMode="External"/><Relationship Id="rId6" Type="http://schemas.openxmlformats.org/officeDocument/2006/relationships/hyperlink" Target="http://www.uceni-online.cz/" TargetMode="External"/><Relationship Id="rId7" Type="http://schemas.openxmlformats.org/officeDocument/2006/relationships/hyperlink" Target="http://www.echalk.co.uk/" TargetMode="External"/><Relationship Id="rId8" Type="http://schemas.openxmlformats.org/officeDocument/2006/relationships/hyperlink" Target="http://www.scio.cz/" TargetMode="External"/><Relationship Id="rId9" Type="http://schemas.openxmlformats.org/officeDocument/2006/relationships/hyperlink" Target="http://www.scio.cz/" TargetMode="External"/><Relationship Id="rId10" Type="http://schemas.openxmlformats.org/officeDocument/2006/relationships/hyperlink" Target="http://www.kvic.cz/" TargetMode="External"/><Relationship Id="rId11" Type="http://schemas.openxmlformats.org/officeDocument/2006/relationships/hyperlink" Target="http://www.kvic.cz/" TargetMode="External"/><Relationship Id="rId12" Type="http://schemas.openxmlformats.org/officeDocument/2006/relationships/hyperlink" Target="http://www.nidv.cz/" TargetMode="External"/><Relationship Id="rId13" Type="http://schemas.openxmlformats.org/officeDocument/2006/relationships/hyperlink" Target="http://www.nidv.cz/" TargetMode="External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dus/uk&#225;zka/orchestr/DUS%20Z&#352;%20ZUB&#344;&#205;_III-2_003_2010.ppt" TargetMode="External"/><Relationship Id="rId2" Type="http://schemas.openxmlformats.org/officeDocument/2006/relationships/hyperlink" Target="file:///../dus/uk&#225;zka/labprace%20postup/DUS%20Z&#352;%20ZUB&#344;&#205;_III-2_001_2010.ppt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harmonogram%20EU%20pen&#237;ze%20dod%20&#353;kol_10-2010.xl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Z&#225;znamov&#253;%20arch-1X.doc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rirucka_pro_zakladni_skoly_zadatele_a_prijemce_1.4.pdf/" TargetMode="External"/><Relationship Id="rId2" Type="http://schemas.openxmlformats.org/officeDocument/2006/relationships/hyperlink" Target="file:///DUM%20Z&#352;%20ZUB&#344;&#205;%20&#353;ablonaX.doc" TargetMode="External"/><Relationship Id="rId3" Type="http://schemas.openxmlformats.org/officeDocument/2006/relationships/hyperlink" Target="file:///DUM%20Z&#352;%20ZUB&#344;&#205;%20&#353;ablonaX.doc" TargetMode="External"/><Relationship Id="rId4" Type="http://schemas.openxmlformats.org/officeDocument/2006/relationships/hyperlink" Target="file:///DUM%20Z&#352;%20ZUB&#344;&#205;%20&#353;ablonaX.doc" TargetMode="External"/><Relationship Id="rId5" Type="http://schemas.openxmlformats.org/officeDocument/2006/relationships/hyperlink" Target="file:///DUS%20Z&#352;%20ZUB&#344;&#205;%20&#8211;%20&#353;ablonaX.ppt" TargetMode="External"/><Relationship Id="rId6" Type="http://schemas.openxmlformats.org/officeDocument/2006/relationships/hyperlink" Target="file:///DUS%20Z&#352;%20ZUB&#344;&#205;%20&#8211;%20&#353;ablonaX.ppt" TargetMode="External"/><Relationship Id="rId7" Type="http://schemas.openxmlformats.org/officeDocument/2006/relationships/hyperlink" Target="file:///DUS%20Z&#352;%20ZUB&#344;&#205;%20&#8211;%20&#353;ablonaX.ppt" TargetMode="External"/><Relationship Id="rId8" Type="http://schemas.openxmlformats.org/officeDocument/2006/relationships/hyperlink" Target="file:///DUS%20Z&#352;%20ZUB&#344;&#205;%20&#8211;%20&#353;ablonaX.ppt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OPVK EU PENÍZE DO ŠKOL I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říjen 2010 Marek Mik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VK EU PENÍZE DO ŠKOL I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US – digitální učební sada – internetové zdroje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rvp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veskole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www.cfme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www.zaskolou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www.uceni-online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www.echalk.co.u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….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šetřit autorská práva odkazem či viditelnou úpravou materiá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užby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www.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scio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evaluac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kolení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www.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kvic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12"/>
              </a:rPr>
              <a:t>www.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13"/>
              </a:rPr>
              <a:t>nidv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VK EU PENÍZE DO ŠKOL I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S – digitální učební s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ný obsah : HLAVIČKA, TÉMA/PŘEDMĚ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oručená struktura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ÚVOD/TEORIE: ( 3 – 5 vět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UP/NÁVOD/OBSAH: max. 10 vě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VK EU PENÍZE DO ŠKOL I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ULTIMEDIA: obrázek, video, klipart, anim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WEB: odka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JÍMAVOST: otázka, úkol, souvislost, interak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NÁMKA: hra, co bude příště, motiv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kázka tvorby v šabloně doc, ppt ( </a:t>
            </a:r>
            <a:r>
              <a:rPr b="0" lang="cs-CZ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CHB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CH – PŘ/INF - Z)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VK EU PENÍZE DO ŠKOL I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RNUTÍ – ÚKOLY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asový plán – záznamový arch (20.11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kace mat/služby/mzdy (15.11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doucí – koordinace (max. 30.11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S a jeho tvorba je vedlejší – soustřeďte se na koncept = co chcete a budete dělat, ne na detaily – provedení , podobně jako příprava na hodinu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VK EU PENÍZE DO ŠKOL I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e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rek Mikl – 603 210 9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mail: mixl@seznam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VK EU PENÍZE DO ŠKOL II – PROGRAM PŘEDNÁŠK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HLÉDNUTÍ – KONCEPCE – 7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ZNAMOVÝ ARCH + DUS – 10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KÁZKY DUS + METODICKÉ POKYNY – 28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VĚR - DISKUSE - DOTAZY –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x .15 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VK EU PENÍZE DO ŠKOL II – koncepce – cíle hlavn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J – ukázka učebny - archit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bolab – www.eduxe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lektronické portfolio – e-learning + ŽK + on-line výukové zdroje + hodnocení + autoevaluace – www.uceni-online.cz, www.heureka-cz.eu, výběr bude těžký, zatím nespecifikován - vyčká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VK EU PENÍZE DO ŠKOL II – koncepce – cíle vedlejš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odernizace výuky – 21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bavenost šk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zdy – odměny (viz. </a:t>
            </a:r>
            <a:r>
              <a:rPr b="0" lang="cs-CZ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tabulk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, nepedagog. prac. týmu = změ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zn. : proběhne korekce rozpočtu – služby jsou nutné !!! pro naplnění zámě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VK EU PENÍZE DO ŠKOL II – koncepce – časový rozv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ří – časový rozvrh (tabulka) – vyřešeno vč. změ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říjen - listopad -  podklady (materiál, služby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jednávky –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říprava výběrových řízení, korek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říjen – listopad - ZÁZNAMOVÝ ARCH +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ROZVAH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 NE TVORBA !!! ) DUS – ukázka a zdůvodnění dá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VK EU PENÍZE DO ŠKOL II – koncepce - časový rozvr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inec – finalizace, příprava, nástěnka(we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den – realizace (?) ihned po přijetí financí na úč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zn. : nutný plán B – posun v čase 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VK EU PENÍZE DO ŠKOL II – ZÁZNAMOVÝ ARC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ZÁZNAMOVÝ ARC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– ukázka, 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zdůvodně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visí s čas. témat. plánem pedagoga, posláním ŠVP a časovým plněním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á se o součást výstupu – rozvaha -&gt; arch -&gt; zápis v TK -&gt; 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VK EU PENÍZE DO ŠKOL II - DU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US –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igitální učební sad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ukázka,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ablona, zdůvodn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o vycházet z </a:t>
            </a:r>
            <a:r>
              <a:rPr b="0" lang="cs-CZ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příruč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– kdo ji nečetl, ať ani netvoří (rozsah, zaměření, aktiv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ENÍ JEDNOZNAČNĚ URČEN PRO ICT 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dná se o výstup - je povin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lektronická (prvotní) a tištěná (následná) podoba – povolené formáty </a:t>
            </a:r>
            <a:r>
              <a:rPr b="0" lang="cs-CZ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dokument </a:t>
            </a:r>
            <a:r>
              <a:rPr b="0" lang="cs-CZ" sz="2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doc</a:t>
            </a:r>
            <a:r>
              <a:rPr b="0" lang="cs-CZ" sz="2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WORD)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pdf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k-SK" sz="2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prezentace</a:t>
            </a:r>
            <a:r>
              <a:rPr b="0" lang="sk-SK" sz="2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 </a:t>
            </a:r>
            <a:r>
              <a:rPr b="0" lang="sk-SK" sz="2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ppt</a:t>
            </a:r>
            <a:r>
              <a:rPr b="0" lang="sk-SK" sz="2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POWER POINT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wf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PVK EU PENÍZE DO ŠKOL II – DU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US – digitální učební sou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doucí skupiny odevzdává koordinátor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avidelná POSTUPNÁ kontrola plnění =&gt; odměny a koordin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vorba jen v nezbytně nutném rozsah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spirace a vzor viz: internet + vlastní šuplíky ( zdigitalizovat a systematizov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8:39:26Z</dcterms:created>
  <dc:creator>mixl</dc:creator>
  <dc:description/>
  <dc:language>en-US</dc:language>
  <cp:lastModifiedBy>mixl</cp:lastModifiedBy>
  <dcterms:modified xsi:type="dcterms:W3CDTF">2010-10-19T18:59:13Z</dcterms:modified>
  <cp:revision>35</cp:revision>
  <dc:subject/>
  <dc:title>OPVK EU PENÍZE DO ŠKOL II</dc:title>
</cp:coreProperties>
</file>