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4D4-87FA-4099-8036-A651293B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CE6-345B-4A68-A62B-0129B1BD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70F-7C58-40CD-AEBC-8310229D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ED0-01C1-4FBB-9629-A565D233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A2D9-9E32-4E2D-8E11-DEC0F6DB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19B8-D1C5-488E-8061-3C7E906A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7C6A-568D-48D5-BB84-42A98C10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E3CE-6E1C-484B-BDE5-9CD9A979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6C45-D34A-4B39-A98C-80918B9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32CB-7380-4F0F-8392-47274203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A6E8-4B29-4D69-87E8-7346E678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94C-22B2-46E8-8A6F-9DDA829F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A203-E82C-485C-AB80-71D4A2D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770-8B3A-448F-979C-DC298636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D65B-ABD5-4435-B8B0-343200A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C6D3-C441-405E-8AF3-0149FB9F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C52D-5763-40D2-BC2C-0A797D40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E0C-1DA3-416C-A076-CEDC72D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8E4-C46E-40F6-9EA4-B820FFE3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D1E-2865-464F-93E6-2A1A9C3C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6EF-0C95-4936-AECF-0E31EBE8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EE6-84FB-4DCD-9A60-88DF57C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4D8-EE18-48EE-82D4-B241551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8C7-473F-4B39-9B2C-9C6BFB3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45C1-3924-4B0E-8188-AF97398AFA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2544-F267-4FB9-AFA9-4784781763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zszubri.cz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tream.cz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ixl@seznam.cz" TargetMode="External"/><Relationship Id="rId2" Type="http://schemas.openxmlformats.org/officeDocument/2006/relationships/hyperlink" Target="http://mixl.sweb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mixl@seznam.cz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OPVKEU ZŠ ZUBŘÍ 3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rek Mik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06-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TECHNI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sílena a reorganizována studovna a knihovna (07/2011), částečně vyměněna VT1, zřízeny servery SRVDELL a SP-811, zabezpečeno, zálohováno, zasíťová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vukové studio, spec. pomůcky (TV, Z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echnika PC  různorodá (XP a W7, Office na učit. PC nejednotné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řešení částečně z OPVKEU a hlavně rozpočtu školy ( 2012 – 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TECHNI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jetek zapsán – seznam vede Mikl/Randýs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ajetek předán – zodpovídá pověřená osoba – (ošetřit režim – evidence zápůjček, ochrana majetku, potřeby školy – technika k dispozic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ntrolovat funkčnost – přípr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lásit nefunkčnost u VT – Mikl, jinak opravy v pravomoci pověřené os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TECHNI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aktická ukázka učebna VT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elké změny v prostředí a koncep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ísta v síti – síťové disky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\\Srvdell\aplikace\netlogon1.j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Žák – zak/hes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XP m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čitel – ucitel/známé heslo - OPVKE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škola má ohromné vlastní inf. zdroje, nutno vytvořit </a:t>
            </a:r>
            <a:r>
              <a:rPr b="0" lang="cs-CZ" sz="3200" spc="-1" strike="noStrike">
                <a:solidFill>
                  <a:srgbClr val="0000ff"/>
                </a:solidFill>
                <a:latin typeface="Tahoma"/>
              </a:rPr>
              <a:t>koncepci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rganizační – strukt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etodickou – využití ve vý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půrnou – klie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řístupu – internet/intranet (obráze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Organizační struktu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živatelé s danými prá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poklad využití pro přípravu, výuku a nutnou legislativ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e kontrolováno spolu s využitím techniky – chytání ry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ahoma"/>
              </a:rPr>
              <a:t>Podpora – klie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ální vzděl. skupiny, samostudiu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jekty, činnost dě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yberprostor je realita nejenom dě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knihovna, hledání, pravda) – je možno je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ovliv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řístup – internet/intra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y přístupné přes internet jsou co 15 minut synchronizovány se servery vnitřní sítě (intran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yní pro učitele, v brzké budoucnosti i pro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ktická ukázka  - viz </a:t>
            </a:r>
            <a:r>
              <a:rPr b="0" lang="en-US" sz="32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www.zszubri.c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a místa v síti (síťové disk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AKTIVITY 1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ýměnný systém – fil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eb, blog, pho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ideo lze, ale je na </a:t>
            </a:r>
            <a:r>
              <a:rPr b="0" lang="cs-CZ" sz="32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www.stream.c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cvičit a stáhnout sez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SOFTW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ahoma"/>
              </a:rPr>
              <a:t>Metodika – využití ve vý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jde je zprovoznění SW knihovna  - knih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časopisy (?), seznam SW - Mikl, sezn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US – suplování, noví členové, budouc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DUS nutno zařadit do výuk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samostatná práce učitelů - zařazení DUS v učivu, ročníku, kapitola, krátká anotace) – práce s xls seznamem – do 31.7.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AKTIVITY 2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ahoma"/>
              </a:rPr>
              <a:t>Dotazy - disku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ahoma"/>
              </a:rPr>
              <a:t>Individuální konzultace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nformatika/robotika 1.st. – Mikl, Krůpová, Martinátová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yzika - Ze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J - Tom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HODNOCENÍ PROJEKT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ZAVŘENO OBDOBÍ 01 – 06 /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čáteční nadšení opadá, větší počet chyb, metodicky vychytáno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poždění (úplně - nemá 1/2 do listopadu 2011 nebo částečně nemá 1/4 ny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zdělení týmu A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chvala pro 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KONE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EK MIK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32109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mixl@seznam.c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Tahoma"/>
                <a:hlinkClick r:id="rId2"/>
              </a:rPr>
              <a:t>http://mixl.sweb.c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HODNOCENÍ PROJEKT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ály – soubory – D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S – dobrá úroveň, velká chyba  odkazy citace - zdroje – obrázky (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utorské práv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rušeny složky OPVKEU ve sborov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sílání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OU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ČA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mail – </a:t>
            </a:r>
            <a:r>
              <a:rPr b="0" lang="en-US" sz="3200" spc="-1" strike="noStrike" u="sng">
                <a:solidFill>
                  <a:srgbClr val="009900"/>
                </a:solidFill>
                <a:uFillTx/>
                <a:latin typeface="Tahoma"/>
                <a:hlinkClick r:id="rId1"/>
              </a:rPr>
              <a:t>mixl@seznam.c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 (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ritmetik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ZNAMY, SEZNAMY – datum 12.4.2011, třída 8.A , 0 žáků, jméno bez titu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HODNOCENÍ PROJEKT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UZE jednotný formát ( doc, xls, docx, xls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ahoma"/>
              </a:rPr>
              <a:t>ZASÍLAJÍ VŠICHNI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 24.6. připraveny definitivní verze – budou rozeslány spec. způsobem ( viz dále)  a </a:t>
            </a:r>
            <a:r>
              <a:rPr b="0" lang="cs-CZ" sz="3200" spc="-1" strike="noStrike">
                <a:solidFill>
                  <a:srgbClr val="0000ff"/>
                </a:solidFill>
                <a:latin typeface="Tahoma"/>
              </a:rPr>
              <a:t>používány pro další období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vše ostatní smaza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HODNOCENÍ PROJEKT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ápisy do T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kratka OPVKEU do kolonky, pouze nejde-li   * 28/6  Ch - OPVKEU , podp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jste-li si jistí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NEPIŠ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konzultujt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iny – musí být zřejmé, že je NAVÍC a INDIVIDUALIZOVANÁ (skupina = není to celá třída 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HODNOCENÍ PROJEKTU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pracována a zaslána monitorovací zpráva – vše k 31.5. – dokumenty jsou zaarchivovány a neměn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ze očekávat připomínky – bude se řešit aktuálně (metodika, výkl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běžné stavy měsíčně, další kontrola a monitorování 11/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ROZPOČ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ýběrové řízení, omezení legislativní a person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ka 600 000,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120 000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měny – 150 000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užby a OVN – 50 000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zerva – 100 000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 čerpání – 100 000,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ROZPOČ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alší splátka 04 /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letos se již nic nekoup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iority splněny kromě AJ – nutno řešit ve spolupráci s rozpočtem školy – inve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okoupit chybějící materiál – Mfg, a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TECHNI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1. st. nyní mimo funkčnost – do 08/2011 (snad) v prov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. st. plně funkční nb učitelské, 1 x IT Př, projektor – Ch, Hv - datový i video t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6.A, Vv – jen datový t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otální rozšíření školní sítě – nutná změna rychlosti a reorganizace – ukončení přelom 2011/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20:14:33Z</dcterms:created>
  <dc:creator>mixl</dc:creator>
  <dc:description/>
  <dc:language>en-US</dc:language>
  <cp:lastModifiedBy>mixl</cp:lastModifiedBy>
  <dcterms:modified xsi:type="dcterms:W3CDTF">2011-07-01T13:37:58Z</dcterms:modified>
  <cp:revision>22</cp:revision>
  <dc:subject/>
  <dc:title>OPVKEU ZŠ ZUBŘÍ 3</dc:title>
</cp:coreProperties>
</file>