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B43-81E5-4FCD-9D15-CA12E419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ADA-E3A4-4180-B09A-58F426B4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0B0-68E1-421F-97C5-634EAE83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7C4-1ACB-47F7-B6BE-CFCEE595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CF15-5635-4E53-992D-F911193C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1E71-5827-47A5-B088-FF99B054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F16E-1FA2-44A8-8ACC-5C5E22A7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2EF8-3BDA-478A-97B8-A3293E1C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C9DC-A142-4BC5-B20F-B5F02DF8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B46C-F383-4C20-8B9B-BE66686D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5677-4BE8-48BC-A2BB-4565D1E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ECD-251A-4AA0-9049-8181408C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423B-3C6A-4323-9D5A-8238DE0E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9ABE-2CAD-47FC-AC65-6E6A8D0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E1EE-2BE0-44CD-95A2-34832F47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DBF5-FEDC-4225-A5BF-DBDCB8DE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727D-1219-4930-A181-54F8D25C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9E1-B26A-4AD4-8E65-1B3CB87C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741-FE9E-4517-AD27-82DA1A3C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F5B-F2AD-410C-AD2A-58155CF1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0ED-E7DA-4717-88EA-8988C076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FC7-6F1C-47EE-8A30-4333BBC4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B96-1146-4327-9788-668C50C8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2AA-F516-423D-9626-BA181A05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BB60-F487-489C-8981-12DF7DDCBB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6926-88B5-41B0-86F2-12D907F5B4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S ZŠ ZUBŘÍ – 3/2/00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cc"/>
                </a:solidFill>
                <a:latin typeface="Arial"/>
              </a:rPr>
              <a:t>Vyhotovil Marek Mikl</a:t>
            </a: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©</a:t>
            </a:r>
            <a:r>
              <a:rPr b="0" lang="cs-CZ" sz="2800" spc="-1" strike="noStrike">
                <a:solidFill>
                  <a:srgbClr val="9900cc"/>
                </a:solidFill>
                <a:latin typeface="Arial"/>
                <a:ea typeface="Arial"/>
              </a:rPr>
              <a:t> 2010</a:t>
            </a: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ÉM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VOD/TEO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STUP/NÁVOD/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ULTIME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WE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JÍMAV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ZNÁM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KONEC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57610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8:31:24Z</dcterms:created>
  <dc:creator>mixl</dc:creator>
  <dc:description/>
  <dc:language>en-US</dc:language>
  <cp:lastModifiedBy>mixl</cp:lastModifiedBy>
  <dcterms:modified xsi:type="dcterms:W3CDTF">2010-10-10T20:41:11Z</dcterms:modified>
  <cp:revision>3</cp:revision>
  <dc:subject/>
  <dc:title>d ZŠ ZUBŘÍ – 3/2/001</dc:title>
</cp:coreProperties>
</file>