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240-3293-462B-8BC7-548AF536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507-C97D-4ED2-88F3-2EB469D5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7EF-DDB2-4E09-9880-DAF957F1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C87-FC3D-455A-A742-B7DC8FA2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FDA2-494D-4FF0-B444-840D75DA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FD89-EF7B-4637-92AC-FE6B190C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0AB4-2507-49B9-B860-24A1CDF4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F237-94CB-4A5B-B13F-EACBCD7F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32DF-4139-43C5-8C49-229FA0EC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92D3-6255-4006-8E50-AF500979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B4D7-8216-4D01-81C5-4691F9D4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4A5-46EC-4493-9BD9-F2B97CE4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966C-9ADC-4BBE-8A00-7101F741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415C-D9AF-4FFE-AEB8-03D7987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26EC-DB29-467E-BBC9-3F36B217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3B4B-7986-41CB-9A28-C98D2462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2F1A-A950-4821-BBE5-8BC75539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4F1-74BC-47C3-8FBB-6E825512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3DB-3AB7-462D-84F7-8CD39A0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C43-5D06-4A34-BADF-C92999D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4D3-1588-4FD6-8D00-12B9EA13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C4A-B47A-4C1B-96F5-746F832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9F9-22DA-4206-AD0C-CBDA1B29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81B-6DE3-4CD2-A0F6-F5B13C0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8211-284F-4EEE-85A6-D4C0D96B3A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E417-19BB-4243-B950-E8E1BDB037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vp.cz/" TargetMode="External"/><Relationship Id="rId2" Type="http://schemas.openxmlformats.org/officeDocument/2006/relationships/hyperlink" Target="http://www.rvp.cz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9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BJASNĚNÍ PROJEKTU – VIZ. VÝZ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SLÁNÍ PROJEKTU – web MŠMT, ZŠ ZUBŘ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ŠE ÚČAST –podaná přihlášk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9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ÁKLADNÍ POJMY – oblast, obor, kapitola(modul), specifika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PITOLY – důležité pojm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ŘÍRUČKA - ukázk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GISLATIVA – další dokumenty na web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ÍN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ří – časový rozvr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íjen - podkla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opad - přípr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en- re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ZNAMOVÝ ARCH – ukázka, zdůvod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KOLENÍ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TROLNÍ MECHANIS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9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Š ZÁMĚR – jazyky, ICT vybavení, mz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TERIÁL/SLUŽBY/MZDY – objasnění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M – </a:t>
            </a:r>
            <a:r>
              <a:rPr b="0" lang="cs-CZ" sz="3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3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rvp.cz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echalk, naše dí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RSONÁLNÍ ZABEZPEČENÍ – HIERARCH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9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RMONOGRAM PRACÍ – viz tabulk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EDOUCÍ, TÝM - – viz tabulk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ZDĚLENÍ ČINOSTÍ A ÚKOLŮ – (MOZKOBOUŘA) – viz tabulk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SKUS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9:05:03Z</dcterms:created>
  <dc:creator>mixl</dc:creator>
  <dc:description/>
  <dc:language>en-US</dc:language>
  <cp:lastModifiedBy>mixl</cp:lastModifiedBy>
  <dcterms:modified xsi:type="dcterms:W3CDTF">2010-08-30T19:13:11Z</dcterms:modified>
  <cp:revision>4</cp:revision>
  <dc:subject/>
  <dc:title>OPVK EU PENÍZE DO ŠKOL</dc:title>
</cp:coreProperties>
</file>